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CB8-50C3-41EE-8A58-385633BA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ED3-0BC2-4906-B6E7-A3B490DC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08D-4E11-4BFF-8FB1-267ACCFF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2C9-7398-4F45-A781-013F6BCB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18B-7D2F-40B1-8F24-3A8F64A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0FB-2102-40EF-B515-B264F32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ADD-50F5-4C71-9616-76A7443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ABD-6C82-41D9-8DE5-A56E7126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03A-43EF-40B8-B57D-BF8D4CA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EA5-CAE6-41C9-B290-EAF04ED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704-CC60-416D-B739-1C710B6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93E-ECBE-45B0-911C-8B98EAC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3306-3E70-4665-9EBF-55303E46BB2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An Introduction To Industr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glome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concentration of different parts of the same industry in one area, which has many advantages including lowering transport costs and easing access to each p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ownfield sit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laimed industrial or residential land that is cleared and made available for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oney invested in companies to allow them to start produ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all-encompassing word for all transport methods as well as phone, fax and e-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otloose industr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industry that is not tied to a location by its need for raw mater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eenfield sit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ural land, often just outside cities, that is cleared and used for industry, often Science and Business Pa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bou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work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arket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Where the company will sell its product. The market for many large companies nowadays is the entire worl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Multi-national companies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Large corporations, with their headquarters in a developed country, who have factories in countries all over the world. This gives them access to cheap labour, cheap land and the world marke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Trans-national companies: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See 'Multi-national companies'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2:50:16Z</dcterms:created>
  <dc:creator>Dell_02</dc:creator>
  <dc:description/>
  <dc:language>en-US</dc:language>
  <cp:lastModifiedBy>Dell_02</cp:lastModifiedBy>
  <dcterms:modified xsi:type="dcterms:W3CDTF">2011-01-27T02:53:16Z</dcterms:modified>
  <cp:revision>1</cp:revision>
  <dc:subject/>
  <dc:title>An Introduction To Industry</dc:title>
</cp:coreProperties>
</file>